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12.png" ContentType="image/png"/>
  <Override PartName="/ppt/media/image20.wmf" ContentType="image/x-wmf"/>
  <Override PartName="/ppt/media/image4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0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920" y="3573720"/>
            <a:ext cx="8610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201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7080" y="1066320"/>
            <a:ext cx="4201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920" y="3573720"/>
            <a:ext cx="4201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17080" y="3573720"/>
            <a:ext cx="4201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277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6240" y="1066320"/>
            <a:ext cx="277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27560" y="1066320"/>
            <a:ext cx="277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920" y="3573720"/>
            <a:ext cx="277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16240" y="3573720"/>
            <a:ext cx="277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27560" y="3573720"/>
            <a:ext cx="277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920" y="10663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201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1066320"/>
            <a:ext cx="4201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285640" y="228600"/>
            <a:ext cx="67057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201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7080" y="1066320"/>
            <a:ext cx="4201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573720"/>
            <a:ext cx="4201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201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7080" y="1066320"/>
            <a:ext cx="4201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17080" y="3573720"/>
            <a:ext cx="4201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201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066320"/>
            <a:ext cx="4201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573720"/>
            <a:ext cx="8610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0663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004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e-2005-blu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2195640" cy="57636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9144000" cy="3636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54696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Workshop 4e, 19. October 2005                                                              eChallenges e-2005                                           Copyright 2005  University of Stuttgart, HL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467480" y="594360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Insert Org Logo in Master s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600960"/>
            <a:ext cx="91440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3"/>
          <a:stretch/>
        </p:blipFill>
        <p:spPr>
          <a:xfrm>
            <a:off x="6588000" y="5884920"/>
            <a:ext cx="2448000" cy="68904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4"/>
          <a:stretch/>
        </p:blipFill>
        <p:spPr>
          <a:xfrm>
            <a:off x="108000" y="5591160"/>
            <a:ext cx="1836720" cy="100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image" Target="../media/image16.wmf"/><Relationship Id="rId13" Type="http://schemas.openxmlformats.org/officeDocument/2006/relationships/image" Target="../media/image17.wmf"/><Relationship Id="rId1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png"/><Relationship Id="rId11" Type="http://schemas.openxmlformats.org/officeDocument/2006/relationships/image" Target="../media/image19.wmf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png"/><Relationship Id="rId11" Type="http://schemas.openxmlformats.org/officeDocument/2006/relationships/image" Target="../media/image19.wmf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99"/>
                </a:solidFill>
                <a:latin typeface="Arial Black"/>
              </a:rPr>
              <a:t>Secure and Dynamic Virtual Organisations</a:t>
            </a:r>
            <a:br>
              <a:rPr sz="2400"/>
            </a:br>
            <a:r>
              <a:rPr b="0" lang="en-IE" sz="2400" spc="-1" strike="noStrike">
                <a:solidFill>
                  <a:srgbClr val="003399"/>
                </a:solidFill>
                <a:latin typeface="Arial Black"/>
              </a:rPr>
              <a:t>for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3399"/>
                </a:solidFill>
                <a:latin typeface="Arial"/>
              </a:rPr>
              <a:t>Lutz Schubert</a:t>
            </a:r>
            <a:r>
              <a:rPr b="0" lang="en-IE" sz="2400" spc="-1" strike="noStrike">
                <a:solidFill>
                  <a:srgbClr val="003399"/>
                </a:solidFill>
                <a:latin typeface="Arial"/>
              </a:rPr>
              <a:t>, Stefan Wesn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u="sng">
                <a:solidFill>
                  <a:srgbClr val="003399"/>
                </a:solidFill>
                <a:uFillTx/>
                <a:latin typeface="Arial"/>
              </a:rPr>
              <a:t>High Performance Computing Centre HL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99"/>
                </a:solidFill>
                <a:latin typeface="Arial"/>
              </a:rPr>
              <a:t>University of Stuttgart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99"/>
                </a:solidFill>
                <a:latin typeface="Arial"/>
              </a:rPr>
              <a:t>Theo Dimitrak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99"/>
                </a:solidFill>
                <a:latin typeface="Arial"/>
              </a:rPr>
              <a:t>BT Security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99"/>
                </a:solidFill>
                <a:latin typeface="Arial"/>
              </a:rPr>
              <a:t>Ipswich, Suffolk, 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613728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60199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14680" y="32130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800" spc="-1" strike="noStrike">
              <a:solidFill>
                <a:srgbClr val="003399"/>
              </a:solidFill>
              <a:latin typeface="BankGothic Md B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69800"/>
            <a:ext cx="8610480" cy="5079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usiness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9280" y="836640"/>
            <a:ext cx="1440000" cy="1160280"/>
          </a:xfrm>
          <a:prstGeom prst="rect">
            <a:avLst/>
          </a:prstGeom>
          <a:noFill/>
          <a:ln w="0">
            <a:noFill/>
          </a:ln>
          <a:effectLst>
            <a:outerShdw dist="77353" dir="562478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206064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 order to realise autonomous management, the following issues have to be catered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artner preferences“ (performance history &amp;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curity (access rights, authentication &amp;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tract management (performance monitoring &amp;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stributed execution of business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5" dur="1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BankGothic Md BT"/>
              </a:rPr>
              <a:t>The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2204640"/>
            <a:ext cx="8610480" cy="863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eb Service Based Framework for Virtual Organi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9280" y="1671480"/>
            <a:ext cx="1440000" cy="1160280"/>
          </a:xfrm>
          <a:prstGeom prst="rect">
            <a:avLst/>
          </a:prstGeom>
          <a:noFill/>
          <a:ln w="0">
            <a:noFill/>
          </a:ln>
          <a:effectLst>
            <a:outerShdw dist="77353" dir="562478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BankGothic Md BT"/>
              </a:rPr>
              <a:t>The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8200" y="2060640"/>
            <a:ext cx="7921440" cy="380376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8200" y="920880"/>
            <a:ext cx="7921440" cy="10159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upporting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64240" y="2206800"/>
            <a:ext cx="1760760" cy="3522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3200" y="2206800"/>
            <a:ext cx="1760400" cy="352260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VO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37000" y="2206800"/>
            <a:ext cx="3725640" cy="3522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rusted Third Pa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70640" y="620640"/>
            <a:ext cx="2071800" cy="935280"/>
          </a:xfrm>
          <a:prstGeom prst="wedgeRoundRectCallout">
            <a:avLst>
              <a:gd name="adj1" fmla="val -37625"/>
              <a:gd name="adj2" fmla="val 7535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pporting services provide application agnostic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03840" y="4653000"/>
            <a:ext cx="2071800" cy="1111320"/>
          </a:xfrm>
          <a:prstGeom prst="wedgeRoundRectCallout">
            <a:avLst>
              <a:gd name="adj1" fmla="val -25171"/>
              <a:gd name="adj2" fmla="val -7714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pplication Services perform the actual logic of the overall VO work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1838160"/>
            <a:ext cx="2951280" cy="1519560"/>
          </a:xfrm>
          <a:prstGeom prst="wedgeRoundRectCallout">
            <a:avLst>
              <a:gd name="adj1" fmla="val 16055"/>
              <a:gd name="adj2" fmla="val 7162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VO Manager ensures correct „functioning“ of the VO throughout all phases – this covers membership management, information distribution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93840" y="4829040"/>
            <a:ext cx="3541680" cy="1047960"/>
          </a:xfrm>
          <a:prstGeom prst="wedgeRoundRectCallout">
            <a:avLst>
              <a:gd name="adj1" fmla="val 31847"/>
              <a:gd name="adj2" fmla="val -8090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usted Third Parties are „unnecessary“ from a technical stance, but they are „trusted“ by all participants to act „neutrally“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41440" y="2089080"/>
            <a:ext cx="7918200" cy="3861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77880" y="2225520"/>
            <a:ext cx="1758960" cy="358632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38440" y="2225520"/>
            <a:ext cx="3724200" cy="3586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64240" y="2225520"/>
            <a:ext cx="1758960" cy="3586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95600" y="1260360"/>
            <a:ext cx="672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1440" y="917640"/>
            <a:ext cx="7918200" cy="105228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82520" y="1060560"/>
            <a:ext cx="101448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P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74880" y="1054080"/>
            <a:ext cx="101448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D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94200" y="1054080"/>
            <a:ext cx="101448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erformance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11720" y="1054080"/>
            <a:ext cx="101448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LA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emplate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92400" y="5033880"/>
            <a:ext cx="101448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TP SLA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82520" y="3675240"/>
            <a:ext cx="1014480" cy="61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92400" y="2363760"/>
            <a:ext cx="101448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scovery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74880" y="5040360"/>
            <a:ext cx="101448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TP Policy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82520" y="2363760"/>
            <a:ext cx="101448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P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nac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11720" y="5033880"/>
            <a:ext cx="101448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TP Trust &amp;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curity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"/>
          <p:cNvCxnSpPr>
            <a:stCxn id="195" idx="2"/>
            <a:endCxn id="199" idx="0"/>
          </p:cNvCxnSpPr>
          <p:nvPr/>
        </p:nvCxnSpPr>
        <p:spPr>
          <a:xfrm rot="5400000">
            <a:off x="4155480" y="2018880"/>
            <a:ext cx="689760" cy="1080"/>
          </a:xfrm>
          <a:prstGeom prst="bentConnector3">
            <a:avLst>
              <a:gd name="adj1" fmla="val 4997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4" name=""/>
          <p:cNvCxnSpPr/>
          <p:nvPr/>
        </p:nvCxnSpPr>
        <p:spPr>
          <a:xfrm flipH="1" rot="16200000">
            <a:off x="3475800" y="1514880"/>
            <a:ext cx="696240" cy="1015200"/>
          </a:xfrm>
          <a:prstGeom prst="bentConnector3">
            <a:avLst>
              <a:gd name="adj1" fmla="val 49974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5" name=""/>
          <p:cNvCxnSpPr/>
          <p:nvPr/>
        </p:nvCxnSpPr>
        <p:spPr>
          <a:xfrm rot="5400000">
            <a:off x="4828320" y="1514520"/>
            <a:ext cx="696240" cy="1016640"/>
          </a:xfrm>
          <a:prstGeom prst="bentConnector3">
            <a:avLst>
              <a:gd name="adj1" fmla="val 49974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93" idx="2"/>
            <a:endCxn id="201" idx="0"/>
          </p:cNvCxnSpPr>
          <p:nvPr/>
        </p:nvCxnSpPr>
        <p:spPr>
          <a:xfrm flipV="1" rot="10800000">
            <a:off x="1590120" y="1681200"/>
            <a:ext cx="1080" cy="68292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201" idx="2"/>
            <a:endCxn id="198" idx="0"/>
          </p:cNvCxnSpPr>
          <p:nvPr/>
        </p:nvCxnSpPr>
        <p:spPr>
          <a:xfrm flipV="1" rot="10800000">
            <a:off x="1590120" y="2984040"/>
            <a:ext cx="1080" cy="69156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endCxn id="199" idx="1"/>
          </p:cNvCxnSpPr>
          <p:nvPr/>
        </p:nvCxnSpPr>
        <p:spPr>
          <a:xfrm flipV="1">
            <a:off x="2096640" y="2674440"/>
            <a:ext cx="1896120" cy="113904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9" name=""/>
          <p:cNvCxnSpPr>
            <a:stCxn id="198" idx="3"/>
            <a:endCxn id="210" idx="1"/>
          </p:cNvCxnSpPr>
          <p:nvPr/>
        </p:nvCxnSpPr>
        <p:spPr>
          <a:xfrm flipV="1">
            <a:off x="2097000" y="3982680"/>
            <a:ext cx="1899360" cy="2160"/>
          </a:xfrm>
          <a:prstGeom prst="bentConnector3">
            <a:avLst>
              <a:gd name="adj1" fmla="val 49914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11" name=""/>
          <p:cNvCxnSpPr>
            <a:stCxn id="212" idx="1"/>
            <a:endCxn id="210" idx="3"/>
          </p:cNvCxnSpPr>
          <p:nvPr/>
        </p:nvCxnSpPr>
        <p:spPr>
          <a:xfrm rot="10800000">
            <a:off x="5009400" y="3982320"/>
            <a:ext cx="196128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10" name=""/>
          <p:cNvSpPr/>
          <p:nvPr/>
        </p:nvSpPr>
        <p:spPr>
          <a:xfrm>
            <a:off x="3995640" y="3672000"/>
            <a:ext cx="101448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70680" y="3672000"/>
            <a:ext cx="101448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BankGothic Md BT"/>
              </a:rPr>
              <a:t>The Framework</a:t>
            </a:r>
            <a:br>
              <a:rPr sz="2800"/>
            </a:br>
            <a:r>
              <a:rPr b="0" i="1" lang="en-GB" sz="2800" spc="-1" strike="noStrike">
                <a:solidFill>
                  <a:srgbClr val="003399"/>
                </a:solidFill>
                <a:latin typeface="BankGothic Md BT"/>
              </a:rPr>
              <a:t>high level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541440" y="917640"/>
            <a:ext cx="7918200" cy="5032440"/>
            <a:chOff x="541440" y="917640"/>
            <a:chExt cx="7918200" cy="5032440"/>
          </a:xfrm>
        </p:grpSpPr>
        <p:sp>
          <p:nvSpPr>
            <p:cNvPr id="215" name=""/>
            <p:cNvSpPr/>
            <p:nvPr/>
          </p:nvSpPr>
          <p:spPr>
            <a:xfrm>
              <a:off x="541440" y="917640"/>
              <a:ext cx="7918200" cy="105228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1440" y="2089080"/>
              <a:ext cx="7918200" cy="386100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7880" y="2225520"/>
              <a:ext cx="1758960" cy="3586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564240" y="2225520"/>
              <a:ext cx="1758960" cy="3586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082520" y="1060560"/>
              <a:ext cx="1014480" cy="62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82520" y="3675240"/>
              <a:ext cx="1014480" cy="61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O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82520" y="2363760"/>
              <a:ext cx="1014480" cy="62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nact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638440" y="2225520"/>
            <a:ext cx="3724200" cy="3586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95600" y="1260360"/>
            <a:ext cx="672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74880" y="1054080"/>
            <a:ext cx="101448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D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94200" y="1054080"/>
            <a:ext cx="101448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rust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aintenance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11720" y="1054080"/>
            <a:ext cx="101448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LA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emplate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92400" y="2363760"/>
            <a:ext cx="101448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scovery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5" idx="2"/>
            <a:endCxn id="227" idx="0"/>
          </p:cNvCxnSpPr>
          <p:nvPr/>
        </p:nvCxnSpPr>
        <p:spPr>
          <a:xfrm rot="5400000">
            <a:off x="4155480" y="2018880"/>
            <a:ext cx="689760" cy="1080"/>
          </a:xfrm>
          <a:prstGeom prst="bentConnector3">
            <a:avLst>
              <a:gd name="adj1" fmla="val 4997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29" name=""/>
          <p:cNvCxnSpPr/>
          <p:nvPr/>
        </p:nvCxnSpPr>
        <p:spPr>
          <a:xfrm flipH="1" rot="16200000">
            <a:off x="3475800" y="1514880"/>
            <a:ext cx="696240" cy="1015200"/>
          </a:xfrm>
          <a:prstGeom prst="bentConnector3">
            <a:avLst>
              <a:gd name="adj1" fmla="val 49974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30" name=""/>
          <p:cNvCxnSpPr/>
          <p:nvPr/>
        </p:nvCxnSpPr>
        <p:spPr>
          <a:xfrm rot="5400000">
            <a:off x="4828320" y="1514520"/>
            <a:ext cx="696240" cy="1016640"/>
          </a:xfrm>
          <a:prstGeom prst="bentConnector3">
            <a:avLst>
              <a:gd name="adj1" fmla="val 49974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31" name=""/>
          <p:cNvCxnSpPr>
            <a:stCxn id="219" idx="2"/>
            <a:endCxn id="221" idx="0"/>
          </p:cNvCxnSpPr>
          <p:nvPr/>
        </p:nvCxnSpPr>
        <p:spPr>
          <a:xfrm flipV="1" rot="10800000">
            <a:off x="1590120" y="1681200"/>
            <a:ext cx="1080" cy="68292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32" name=""/>
          <p:cNvCxnSpPr>
            <a:stCxn id="221" idx="2"/>
            <a:endCxn id="220" idx="0"/>
          </p:cNvCxnSpPr>
          <p:nvPr/>
        </p:nvCxnSpPr>
        <p:spPr>
          <a:xfrm flipV="1" rot="10800000">
            <a:off x="1590120" y="2984040"/>
            <a:ext cx="1080" cy="69156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33" name=""/>
          <p:cNvCxnSpPr>
            <a:endCxn id="227" idx="1"/>
          </p:cNvCxnSpPr>
          <p:nvPr/>
        </p:nvCxnSpPr>
        <p:spPr>
          <a:xfrm flipV="1">
            <a:off x="2096640" y="2674440"/>
            <a:ext cx="1896120" cy="113904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BankGothic Md BT"/>
              </a:rPr>
              <a:t>The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4880" y="1054080"/>
            <a:ext cx="101448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D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94200" y="1054080"/>
            <a:ext cx="101448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erformance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211720" y="1054080"/>
            <a:ext cx="101448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LA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emplate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92400" y="5040360"/>
            <a:ext cx="101448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TP SLA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92400" y="2363760"/>
            <a:ext cx="101448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scovery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74880" y="5040360"/>
            <a:ext cx="101448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TP Policy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11720" y="5033880"/>
            <a:ext cx="101448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TP Trust &amp;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curity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36" idx="2"/>
            <a:endCxn id="239" idx="0"/>
          </p:cNvCxnSpPr>
          <p:nvPr/>
        </p:nvCxnSpPr>
        <p:spPr>
          <a:xfrm rot="5400000">
            <a:off x="4155480" y="2018880"/>
            <a:ext cx="689760" cy="1080"/>
          </a:xfrm>
          <a:prstGeom prst="bentConnector3">
            <a:avLst>
              <a:gd name="adj1" fmla="val 4997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43" name=""/>
          <p:cNvCxnSpPr/>
          <p:nvPr/>
        </p:nvCxnSpPr>
        <p:spPr>
          <a:xfrm flipH="1" rot="16200000">
            <a:off x="3475800" y="1514880"/>
            <a:ext cx="696240" cy="1015200"/>
          </a:xfrm>
          <a:prstGeom prst="bentConnector3">
            <a:avLst>
              <a:gd name="adj1" fmla="val 49974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44" name=""/>
          <p:cNvCxnSpPr/>
          <p:nvPr/>
        </p:nvCxnSpPr>
        <p:spPr>
          <a:xfrm rot="5400000">
            <a:off x="4828320" y="1514520"/>
            <a:ext cx="696240" cy="1016640"/>
          </a:xfrm>
          <a:prstGeom prst="bentConnector3">
            <a:avLst>
              <a:gd name="adj1" fmla="val 49974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45" name=""/>
          <p:cNvCxnSpPr>
            <a:endCxn id="239" idx="1"/>
          </p:cNvCxnSpPr>
          <p:nvPr/>
        </p:nvCxnSpPr>
        <p:spPr>
          <a:xfrm flipV="1">
            <a:off x="2096640" y="2674440"/>
            <a:ext cx="1896120" cy="113904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46" name=""/>
          <p:cNvCxnSpPr>
            <a:endCxn id="247" idx="1"/>
          </p:cNvCxnSpPr>
          <p:nvPr/>
        </p:nvCxnSpPr>
        <p:spPr>
          <a:xfrm flipV="1">
            <a:off x="2097000" y="3982680"/>
            <a:ext cx="1899360" cy="2160"/>
          </a:xfrm>
          <a:prstGeom prst="bentConnector3">
            <a:avLst>
              <a:gd name="adj1" fmla="val 49914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48" name=""/>
          <p:cNvCxnSpPr>
            <a:endCxn id="247" idx="3"/>
          </p:cNvCxnSpPr>
          <p:nvPr/>
        </p:nvCxnSpPr>
        <p:spPr>
          <a:xfrm rot="10800000">
            <a:off x="5009400" y="3982320"/>
            <a:ext cx="196128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3995640" y="3672000"/>
            <a:ext cx="101448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85840" y="963720"/>
            <a:ext cx="6626160" cy="498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ervice Provider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836360" y="1413000"/>
            <a:ext cx="5472000" cy="3985920"/>
            <a:chOff x="1836360" y="1413000"/>
            <a:chExt cx="5472000" cy="3985920"/>
          </a:xfrm>
        </p:grpSpPr>
        <p:pic>
          <p:nvPicPr>
            <p:cNvPr id="251" name="" descr=""/>
            <p:cNvPicPr/>
            <p:nvPr/>
          </p:nvPicPr>
          <p:blipFill>
            <a:blip r:embed="rId1"/>
            <a:stretch/>
          </p:blipFill>
          <p:spPr>
            <a:xfrm>
              <a:off x="3420720" y="1413000"/>
              <a:ext cx="136800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2"/>
            <a:stretch/>
          </p:blipFill>
          <p:spPr>
            <a:xfrm flipH="1">
              <a:off x="1836360" y="2830680"/>
              <a:ext cx="69012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3"/>
            <a:stretch/>
          </p:blipFill>
          <p:spPr>
            <a:xfrm>
              <a:off x="5940000" y="2901960"/>
              <a:ext cx="136836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4"/>
            <a:stretch/>
          </p:blipFill>
          <p:spPr>
            <a:xfrm>
              <a:off x="3420720" y="4557600"/>
              <a:ext cx="136800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5"/>
            <a:stretch/>
          </p:blipFill>
          <p:spPr>
            <a:xfrm>
              <a:off x="5652720" y="4414680"/>
              <a:ext cx="1368000" cy="8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6"/>
            <a:stretch/>
          </p:blipFill>
          <p:spPr>
            <a:xfrm>
              <a:off x="5581440" y="1628640"/>
              <a:ext cx="136800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3997080" y="32194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8" name=""/>
            <p:cNvCxnSpPr>
              <a:stCxn id="252" idx="3"/>
              <a:endCxn id="257" idx="2"/>
            </p:cNvCxnSpPr>
            <p:nvPr/>
          </p:nvCxnSpPr>
          <p:spPr>
            <a:xfrm flipV="1">
              <a:off x="2528640" y="3326760"/>
              <a:ext cx="1454400" cy="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9" name=""/>
            <p:cNvCxnSpPr>
              <a:stCxn id="257" idx="6"/>
              <a:endCxn id="253" idx="1"/>
            </p:cNvCxnSpPr>
            <p:nvPr/>
          </p:nvCxnSpPr>
          <p:spPr>
            <a:xfrm flipV="1">
              <a:off x="4226760" y="3322080"/>
              <a:ext cx="1713240" cy="5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0" name=""/>
            <p:cNvCxnSpPr>
              <a:stCxn id="251" idx="2"/>
              <a:endCxn id="257" idx="0"/>
            </p:cNvCxnSpPr>
            <p:nvPr/>
          </p:nvCxnSpPr>
          <p:spPr>
            <a:xfrm>
              <a:off x="4104720" y="2253960"/>
              <a:ext cx="1080" cy="951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1" name=""/>
            <p:cNvCxnSpPr>
              <a:stCxn id="257" idx="7"/>
              <a:endCxn id="256" idx="1"/>
            </p:cNvCxnSpPr>
            <p:nvPr/>
          </p:nvCxnSpPr>
          <p:spPr>
            <a:xfrm flipV="1">
              <a:off x="4180680" y="2049480"/>
              <a:ext cx="1400400" cy="1187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2" name=""/>
            <p:cNvCxnSpPr>
              <a:stCxn id="254" idx="0"/>
              <a:endCxn id="257" idx="4"/>
            </p:cNvCxnSpPr>
            <p:nvPr/>
          </p:nvCxnSpPr>
          <p:spPr>
            <a:xfrm flipV="1">
              <a:off x="4104720" y="3449160"/>
              <a:ext cx="1080" cy="1108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3" name=""/>
            <p:cNvCxnSpPr>
              <a:stCxn id="255" idx="1"/>
              <a:endCxn id="257" idx="5"/>
            </p:cNvCxnSpPr>
            <p:nvPr/>
          </p:nvCxnSpPr>
          <p:spPr>
            <a:xfrm flipH="1" flipV="1">
              <a:off x="4180320" y="3417480"/>
              <a:ext cx="1472040" cy="1418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264" name=""/>
          <p:cNvSpPr/>
          <p:nvPr/>
        </p:nvSpPr>
        <p:spPr>
          <a:xfrm>
            <a:off x="539640" y="3189240"/>
            <a:ext cx="1008000" cy="289080"/>
          </a:xfrm>
          <a:prstGeom prst="leftRightArrow">
            <a:avLst>
              <a:gd name="adj1" fmla="val 50000"/>
              <a:gd name="adj2" fmla="val 6941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15760" y="3838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1080" y="542304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53080" y="52783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74000" y="3676680"/>
            <a:ext cx="819000" cy="61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969240" y="3678120"/>
            <a:ext cx="102384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7" dur="500" fill="hold"/>
                                        <p:tgtEl>
                                          <p:spTgt spid="268"/>
                                        </p:tgtEl>
                                      </p:cBhvr>
                                      <p:to x="800000" y="8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48148E-006 L -0.32621 -0.08102 E">
                                      <p:cBhvr>
                                        <p:cTn id="409" dur="5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600"/>
                            </p:stCondLst>
                            <p:childTnLst>
                              <p:par>
                                <p:cTn id="42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600"/>
                            </p:stCondLst>
                            <p:childTnLst>
                              <p:par>
                                <p:cTn id="4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600"/>
                            </p:stCondLst>
                            <p:childTnLst>
                              <p:par>
                                <p:cTn id="4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600"/>
                            </p:stCondLst>
                            <p:childTnLst>
                              <p:par>
                                <p:cTn id="4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185840" y="963720"/>
            <a:ext cx="6626160" cy="498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ervice Provider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836360" y="1413000"/>
            <a:ext cx="5472000" cy="3985920"/>
            <a:chOff x="1836360" y="1413000"/>
            <a:chExt cx="5472000" cy="3985920"/>
          </a:xfrm>
        </p:grpSpPr>
        <p:pic>
          <p:nvPicPr>
            <p:cNvPr id="272" name="" descr=""/>
            <p:cNvPicPr/>
            <p:nvPr/>
          </p:nvPicPr>
          <p:blipFill>
            <a:blip r:embed="rId1"/>
            <a:stretch/>
          </p:blipFill>
          <p:spPr>
            <a:xfrm>
              <a:off x="3420720" y="1413000"/>
              <a:ext cx="136800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2"/>
            <a:stretch/>
          </p:blipFill>
          <p:spPr>
            <a:xfrm flipH="1">
              <a:off x="1836360" y="2830680"/>
              <a:ext cx="69012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3"/>
            <a:stretch/>
          </p:blipFill>
          <p:spPr>
            <a:xfrm>
              <a:off x="5940000" y="2901960"/>
              <a:ext cx="136836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4"/>
            <a:stretch/>
          </p:blipFill>
          <p:spPr>
            <a:xfrm>
              <a:off x="3420720" y="4557600"/>
              <a:ext cx="136800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5"/>
            <a:stretch/>
          </p:blipFill>
          <p:spPr>
            <a:xfrm>
              <a:off x="5652720" y="4414680"/>
              <a:ext cx="1368000" cy="8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6"/>
            <a:stretch/>
          </p:blipFill>
          <p:spPr>
            <a:xfrm>
              <a:off x="5581440" y="1628640"/>
              <a:ext cx="136800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3997080" y="32194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3" idx="3"/>
              <a:endCxn id="278" idx="2"/>
            </p:cNvCxnSpPr>
            <p:nvPr/>
          </p:nvCxnSpPr>
          <p:spPr>
            <a:xfrm flipV="1">
              <a:off x="2528640" y="3326760"/>
              <a:ext cx="1454400" cy="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0" name=""/>
            <p:cNvCxnSpPr>
              <a:stCxn id="278" idx="6"/>
              <a:endCxn id="274" idx="1"/>
            </p:cNvCxnSpPr>
            <p:nvPr/>
          </p:nvCxnSpPr>
          <p:spPr>
            <a:xfrm flipV="1">
              <a:off x="4226760" y="3322080"/>
              <a:ext cx="1713240" cy="5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1" name=""/>
            <p:cNvCxnSpPr>
              <a:stCxn id="272" idx="2"/>
              <a:endCxn id="278" idx="0"/>
            </p:cNvCxnSpPr>
            <p:nvPr/>
          </p:nvCxnSpPr>
          <p:spPr>
            <a:xfrm>
              <a:off x="4104720" y="2253960"/>
              <a:ext cx="1080" cy="951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"/>
            <p:cNvCxnSpPr>
              <a:stCxn id="278" idx="7"/>
              <a:endCxn id="277" idx="1"/>
            </p:cNvCxnSpPr>
            <p:nvPr/>
          </p:nvCxnSpPr>
          <p:spPr>
            <a:xfrm flipV="1">
              <a:off x="4180680" y="2049480"/>
              <a:ext cx="1400400" cy="1187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3" name=""/>
            <p:cNvCxnSpPr>
              <a:stCxn id="275" idx="0"/>
              <a:endCxn id="278" idx="4"/>
            </p:cNvCxnSpPr>
            <p:nvPr/>
          </p:nvCxnSpPr>
          <p:spPr>
            <a:xfrm flipV="1">
              <a:off x="4104720" y="3449160"/>
              <a:ext cx="1080" cy="1108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"/>
            <p:cNvCxnSpPr>
              <a:stCxn id="276" idx="1"/>
              <a:endCxn id="278" idx="5"/>
            </p:cNvCxnSpPr>
            <p:nvPr/>
          </p:nvCxnSpPr>
          <p:spPr>
            <a:xfrm flipH="1" flipV="1">
              <a:off x="4180320" y="3417480"/>
              <a:ext cx="1472040" cy="1418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285" name=""/>
          <p:cNvSpPr/>
          <p:nvPr/>
        </p:nvSpPr>
        <p:spPr>
          <a:xfrm>
            <a:off x="1715760" y="3838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21080" y="542304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53080" y="52783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651640" y="1036800"/>
            <a:ext cx="2089080" cy="4824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357960" y="2852640"/>
            <a:ext cx="557280" cy="12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7"/>
          <a:stretch/>
        </p:blipFill>
        <p:spPr>
          <a:xfrm>
            <a:off x="5945040" y="2908440"/>
            <a:ext cx="1368720" cy="8413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58920" y="1030320"/>
            <a:ext cx="4249800" cy="482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57400" y="2840040"/>
            <a:ext cx="1079640" cy="12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8"/>
          <a:stretch/>
        </p:blipFill>
        <p:spPr>
          <a:xfrm flipH="1">
            <a:off x="1841040" y="2830680"/>
            <a:ext cx="690840" cy="10080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539640" y="3189240"/>
            <a:ext cx="1008000" cy="289080"/>
          </a:xfrm>
          <a:prstGeom prst="leftRightArrow">
            <a:avLst>
              <a:gd name="adj1" fmla="val 50000"/>
              <a:gd name="adj2" fmla="val 6941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BankGothic Md BT"/>
              </a:rPr>
              <a:t>The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9" dur="500" fill="hold"/>
                                        <p:tgtEl>
                                          <p:spTgt spid="28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45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04 -2.60116E-006 L 2.77778E-006 -2.60116E-006 E">
                                      <p:cBhvr>
                                        <p:cTn id="451" dur="5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8" dur="500" fill="hold"/>
                                        <p:tgtEl>
                                          <p:spTgt spid="29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46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86 -2.60116E-006 L 4.16667E-006 -2.60116E-006 E">
                                      <p:cBhvr>
                                        <p:cTn id="470" dur="5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5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185840" y="963720"/>
            <a:ext cx="6626160" cy="498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ervice Provider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836360" y="1413000"/>
            <a:ext cx="5472000" cy="3985920"/>
            <a:chOff x="1836360" y="1413000"/>
            <a:chExt cx="5472000" cy="3985920"/>
          </a:xfrm>
        </p:grpSpPr>
        <p:pic>
          <p:nvPicPr>
            <p:cNvPr id="298" name="" descr=""/>
            <p:cNvPicPr/>
            <p:nvPr/>
          </p:nvPicPr>
          <p:blipFill>
            <a:blip r:embed="rId1"/>
            <a:stretch/>
          </p:blipFill>
          <p:spPr>
            <a:xfrm>
              <a:off x="3420720" y="1413000"/>
              <a:ext cx="136800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" descr=""/>
            <p:cNvPicPr/>
            <p:nvPr/>
          </p:nvPicPr>
          <p:blipFill>
            <a:blip r:embed="rId2"/>
            <a:stretch/>
          </p:blipFill>
          <p:spPr>
            <a:xfrm flipH="1">
              <a:off x="1836360" y="2830680"/>
              <a:ext cx="69012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3"/>
            <a:stretch/>
          </p:blipFill>
          <p:spPr>
            <a:xfrm>
              <a:off x="5940000" y="2901960"/>
              <a:ext cx="136836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4"/>
            <a:stretch/>
          </p:blipFill>
          <p:spPr>
            <a:xfrm>
              <a:off x="3420720" y="4557600"/>
              <a:ext cx="136800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5"/>
            <a:stretch/>
          </p:blipFill>
          <p:spPr>
            <a:xfrm>
              <a:off x="5652720" y="4414680"/>
              <a:ext cx="1368000" cy="8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6"/>
            <a:stretch/>
          </p:blipFill>
          <p:spPr>
            <a:xfrm>
              <a:off x="5581440" y="1628640"/>
              <a:ext cx="136800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3997080" y="32194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5" name=""/>
            <p:cNvCxnSpPr>
              <a:stCxn id="299" idx="3"/>
              <a:endCxn id="304" idx="2"/>
            </p:cNvCxnSpPr>
            <p:nvPr/>
          </p:nvCxnSpPr>
          <p:spPr>
            <a:xfrm flipV="1">
              <a:off x="2528640" y="3326760"/>
              <a:ext cx="1454400" cy="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6" name=""/>
            <p:cNvCxnSpPr>
              <a:stCxn id="304" idx="6"/>
              <a:endCxn id="300" idx="1"/>
            </p:cNvCxnSpPr>
            <p:nvPr/>
          </p:nvCxnSpPr>
          <p:spPr>
            <a:xfrm flipV="1">
              <a:off x="4226760" y="3322080"/>
              <a:ext cx="1713240" cy="5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7" name=""/>
            <p:cNvCxnSpPr>
              <a:stCxn id="298" idx="2"/>
              <a:endCxn id="304" idx="0"/>
            </p:cNvCxnSpPr>
            <p:nvPr/>
          </p:nvCxnSpPr>
          <p:spPr>
            <a:xfrm>
              <a:off x="4104720" y="2253960"/>
              <a:ext cx="1080" cy="951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8" name=""/>
            <p:cNvCxnSpPr>
              <a:stCxn id="304" idx="7"/>
              <a:endCxn id="303" idx="1"/>
            </p:cNvCxnSpPr>
            <p:nvPr/>
          </p:nvCxnSpPr>
          <p:spPr>
            <a:xfrm flipV="1">
              <a:off x="4180680" y="2049480"/>
              <a:ext cx="1400400" cy="1187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9" name=""/>
            <p:cNvCxnSpPr>
              <a:stCxn id="301" idx="0"/>
              <a:endCxn id="304" idx="4"/>
            </p:cNvCxnSpPr>
            <p:nvPr/>
          </p:nvCxnSpPr>
          <p:spPr>
            <a:xfrm flipV="1">
              <a:off x="4104720" y="3449160"/>
              <a:ext cx="1080" cy="1108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0" name=""/>
            <p:cNvCxnSpPr>
              <a:stCxn id="302" idx="1"/>
              <a:endCxn id="304" idx="5"/>
            </p:cNvCxnSpPr>
            <p:nvPr/>
          </p:nvCxnSpPr>
          <p:spPr>
            <a:xfrm flipH="1" flipV="1">
              <a:off x="4180320" y="3417480"/>
              <a:ext cx="1472040" cy="1418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311" name=""/>
          <p:cNvSpPr/>
          <p:nvPr/>
        </p:nvSpPr>
        <p:spPr>
          <a:xfrm>
            <a:off x="1715760" y="3838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21080" y="542304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653080" y="52783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651640" y="1036800"/>
            <a:ext cx="2089080" cy="4824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58920" y="1030320"/>
            <a:ext cx="4249800" cy="482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9640" y="3189240"/>
            <a:ext cx="1008000" cy="289080"/>
          </a:xfrm>
          <a:prstGeom prst="leftRightArrow">
            <a:avLst>
              <a:gd name="adj1" fmla="val 50000"/>
              <a:gd name="adj2" fmla="val 6941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19280" y="3002040"/>
            <a:ext cx="1079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essaging &amp;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19280" y="1490760"/>
            <a:ext cx="1079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P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43280" y="4514760"/>
            <a:ext cx="10792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rust &amp;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19280" y="4514760"/>
            <a:ext cx="1079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67280" y="4514760"/>
            <a:ext cx="10792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LA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"/>
          <p:cNvCxnSpPr>
            <a:stCxn id="318" idx="2"/>
            <a:endCxn id="317" idx="0"/>
          </p:cNvCxnSpPr>
          <p:nvPr/>
        </p:nvCxnSpPr>
        <p:spPr>
          <a:xfrm flipV="1" rot="10800000">
            <a:off x="2158200" y="2138040"/>
            <a:ext cx="1080" cy="86436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23" name=""/>
          <p:cNvCxnSpPr/>
          <p:nvPr/>
        </p:nvCxnSpPr>
        <p:spPr>
          <a:xfrm flipV="1" rot="10800000">
            <a:off x="1977480" y="3649320"/>
            <a:ext cx="1080" cy="86580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24" name=""/>
          <p:cNvCxnSpPr/>
          <p:nvPr/>
        </p:nvCxnSpPr>
        <p:spPr>
          <a:xfrm flipH="1" rot="16200000">
            <a:off x="3021840" y="2965680"/>
            <a:ext cx="865800" cy="2232720"/>
          </a:xfrm>
          <a:prstGeom prst="bentConnector3">
            <a:avLst>
              <a:gd name="adj1" fmla="val 49875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25" name=""/>
          <p:cNvCxnSpPr>
            <a:stCxn id="317" idx="2"/>
            <a:endCxn id="319" idx="0"/>
          </p:cNvCxnSpPr>
          <p:nvPr/>
        </p:nvCxnSpPr>
        <p:spPr>
          <a:xfrm flipH="1" rot="16200000">
            <a:off x="2338200" y="3469680"/>
            <a:ext cx="865800" cy="1224720"/>
          </a:xfrm>
          <a:prstGeom prst="bentConnector3">
            <a:avLst>
              <a:gd name="adj1" fmla="val 68594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26" name=""/>
          <p:cNvCxnSpPr>
            <a:stCxn id="327" idx="1"/>
            <a:endCxn id="321" idx="3"/>
          </p:cNvCxnSpPr>
          <p:nvPr/>
        </p:nvCxnSpPr>
        <p:spPr>
          <a:xfrm rot="10800000">
            <a:off x="5145840" y="4838040"/>
            <a:ext cx="93744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28" name=""/>
          <p:cNvCxnSpPr>
            <a:stCxn id="329" idx="1"/>
            <a:endCxn id="317" idx="3"/>
          </p:cNvCxnSpPr>
          <p:nvPr/>
        </p:nvCxnSpPr>
        <p:spPr>
          <a:xfrm rot="10800000">
            <a:off x="2698200" y="3324960"/>
            <a:ext cx="338508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29" name=""/>
          <p:cNvSpPr/>
          <p:nvPr/>
        </p:nvSpPr>
        <p:spPr>
          <a:xfrm>
            <a:off x="6083280" y="3002040"/>
            <a:ext cx="1079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(Application)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eb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83280" y="4514760"/>
            <a:ext cx="1079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ocal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BankGothic Md BT"/>
              </a:rPr>
              <a:t>The Framework</a:t>
            </a:r>
            <a:br>
              <a:rPr sz="2800"/>
            </a:br>
            <a:r>
              <a:rPr b="0" i="1" lang="en-GB" sz="2800" spc="-1" strike="noStrike">
                <a:solidFill>
                  <a:srgbClr val="003399"/>
                </a:solidFill>
                <a:latin typeface="BankGothic Md BT"/>
              </a:rPr>
              <a:t>service level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4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800" spc="-1" strike="noStrike">
              <a:solidFill>
                <a:srgbClr val="003399"/>
              </a:solidFill>
              <a:latin typeface="BankGothic Md B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369800"/>
            <a:ext cx="8610480" cy="5079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836640"/>
            <a:ext cx="1440000" cy="1160280"/>
          </a:xfrm>
          <a:prstGeom prst="rect">
            <a:avLst/>
          </a:prstGeom>
          <a:noFill/>
          <a:ln w="0">
            <a:noFill/>
          </a:ln>
          <a:effectLst>
            <a:outerShdw dist="77353" dir="562478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4000" y="2060640"/>
            <a:ext cx="8569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ch a „VO provisioning“ infrastructure allows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Identification of participants on basis of business/task specific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Discovery with respect to capabilities, their quality of service and their performance histor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Maintenance of service provider (SP) specific polic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Monitoring and evaluation of service-qua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Secure and controlled environ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Aggregation of SP to act (externally) as a single entit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Narrow"/>
              </a:rPr>
              <a:t>Simple „plug &amp; play“ us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Not all SP need to support the whole set of function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2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5" dur="1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2924280"/>
            <a:ext cx="861048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cc3300"/>
                </a:solidFill>
                <a:latin typeface="Arial Black"/>
              </a:rPr>
              <a:t>THANK YOU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52680" y="1413000"/>
            <a:ext cx="6114960" cy="40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rom eBusiness to Virtual Organis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. Identifying Collaboration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I. Formation of a Collab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II. Execution of the Business Process(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V. Dynamic Exchange of Particip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. Dissolution of the Collab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 Service Based Framework for 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Frame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gh Level 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rvice Level 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1714680"/>
            <a:ext cx="626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58920" y="4105440"/>
            <a:ext cx="626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58920" y="5315040"/>
            <a:ext cx="626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800" spc="-1" strike="noStrike">
              <a:solidFill>
                <a:srgbClr val="003399"/>
              </a:solidFill>
              <a:latin typeface="BankGothic Md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204640"/>
            <a:ext cx="8610480" cy="863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rom eBusiness to Virtual Organi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1671480"/>
            <a:ext cx="1295280" cy="1160280"/>
          </a:xfrm>
          <a:prstGeom prst="rect">
            <a:avLst/>
          </a:prstGeom>
          <a:noFill/>
          <a:ln w="0">
            <a:noFill/>
          </a:ln>
          <a:effectLst>
            <a:outerShdw dist="77353" dir="562478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BankGothic Md BT"/>
              </a:rPr>
              <a:t>From eBusiness to </a:t>
            </a:r>
            <a:br>
              <a:rPr sz="2800"/>
            </a:br>
            <a:r>
              <a:rPr b="0" lang="en-GB" sz="2800" spc="-1" strike="noStrike">
                <a:solidFill>
                  <a:srgbClr val="003399"/>
                </a:solidFill>
                <a:latin typeface="BankGothic Md BT"/>
              </a:rPr>
              <a:t>Virtual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3122640"/>
            <a:ext cx="1295280" cy="955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556000" y="29242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516720" y="1341360"/>
            <a:ext cx="1368360" cy="1139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3419640" y="1197000"/>
            <a:ext cx="819000" cy="876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3348000" y="5013360"/>
            <a:ext cx="609480" cy="888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4932360" y="2060640"/>
            <a:ext cx="1440000" cy="1101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7308720" y="3357720"/>
            <a:ext cx="1163880" cy="1407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5148360" y="4508640"/>
            <a:ext cx="1368360" cy="1244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630440" y="3429000"/>
            <a:ext cx="863640" cy="216000"/>
          </a:xfrm>
          <a:prstGeom prst="rightArrow">
            <a:avLst>
              <a:gd name="adj1" fmla="val 50000"/>
              <a:gd name="adj2" fmla="val 99958"/>
            </a:avLst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21095400">
            <a:off x="1547640" y="2924280"/>
            <a:ext cx="3457800" cy="215640"/>
          </a:xfrm>
          <a:prstGeom prst="rightArrow">
            <a:avLst>
              <a:gd name="adj1" fmla="val 50000"/>
              <a:gd name="adj2" fmla="val 159014"/>
            </a:avLst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90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9699200">
            <a:off x="1258560" y="2349000"/>
            <a:ext cx="2376360" cy="216000"/>
          </a:xfrm>
          <a:prstGeom prst="rightArrow">
            <a:avLst>
              <a:gd name="adj1" fmla="val 50000"/>
              <a:gd name="adj2" fmla="val 123463"/>
            </a:avLst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730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209600">
            <a:off x="1485720" y="4292280"/>
            <a:ext cx="3733560" cy="216000"/>
          </a:xfrm>
          <a:prstGeom prst="rightArrow">
            <a:avLst>
              <a:gd name="adj1" fmla="val 60296"/>
              <a:gd name="adj2" fmla="val 176371"/>
            </a:avLst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418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324000" y="3122640"/>
            <a:ext cx="1295280" cy="955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2556000" y="29242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1"/>
          <a:stretch/>
        </p:blipFill>
        <p:spPr>
          <a:xfrm>
            <a:off x="3419640" y="1197000"/>
            <a:ext cx="819000" cy="8762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2"/>
          <a:stretch/>
        </p:blipFill>
        <p:spPr>
          <a:xfrm>
            <a:off x="4932360" y="2060640"/>
            <a:ext cx="1440000" cy="1101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3"/>
          <a:stretch/>
        </p:blipFill>
        <p:spPr>
          <a:xfrm>
            <a:off x="5148360" y="4508640"/>
            <a:ext cx="1368360" cy="1244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08000" y="98100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r" pos="35712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dentification of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llaboratio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artn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4240" y="885960"/>
            <a:ext cx="6864120" cy="5435640"/>
          </a:xfrm>
          <a:custGeom>
            <a:avLst/>
            <a:gdLst/>
            <a:ahLst/>
            <a:rect l="l" t="t" r="r" b="b"/>
            <a:pathLst>
              <a:path w="4324" h="3424">
                <a:moveTo>
                  <a:pt x="468" y="2282"/>
                </a:moveTo>
                <a:cubicBezTo>
                  <a:pt x="279" y="2176"/>
                  <a:pt x="30" y="1979"/>
                  <a:pt x="15" y="1783"/>
                </a:cubicBezTo>
                <a:cubicBezTo>
                  <a:pt x="0" y="1587"/>
                  <a:pt x="151" y="1216"/>
                  <a:pt x="378" y="1103"/>
                </a:cubicBezTo>
                <a:cubicBezTo>
                  <a:pt x="605" y="990"/>
                  <a:pt x="1127" y="1156"/>
                  <a:pt x="1376" y="1103"/>
                </a:cubicBezTo>
                <a:cubicBezTo>
                  <a:pt x="1625" y="1050"/>
                  <a:pt x="1791" y="922"/>
                  <a:pt x="1874" y="786"/>
                </a:cubicBezTo>
                <a:cubicBezTo>
                  <a:pt x="1957" y="650"/>
                  <a:pt x="1829" y="408"/>
                  <a:pt x="1874" y="287"/>
                </a:cubicBezTo>
                <a:cubicBezTo>
                  <a:pt x="1919" y="166"/>
                  <a:pt x="1973" y="98"/>
                  <a:pt x="2147" y="60"/>
                </a:cubicBezTo>
                <a:cubicBezTo>
                  <a:pt x="2321" y="22"/>
                  <a:pt x="2646" y="0"/>
                  <a:pt x="2918" y="60"/>
                </a:cubicBezTo>
                <a:cubicBezTo>
                  <a:pt x="3190" y="120"/>
                  <a:pt x="3568" y="227"/>
                  <a:pt x="3780" y="423"/>
                </a:cubicBezTo>
                <a:cubicBezTo>
                  <a:pt x="3992" y="619"/>
                  <a:pt x="4158" y="975"/>
                  <a:pt x="4188" y="1239"/>
                </a:cubicBezTo>
                <a:cubicBezTo>
                  <a:pt x="4218" y="1503"/>
                  <a:pt x="3961" y="1798"/>
                  <a:pt x="3961" y="2010"/>
                </a:cubicBezTo>
                <a:cubicBezTo>
                  <a:pt x="3961" y="2222"/>
                  <a:pt x="4135" y="2335"/>
                  <a:pt x="4188" y="2509"/>
                </a:cubicBezTo>
                <a:cubicBezTo>
                  <a:pt x="4241" y="2683"/>
                  <a:pt x="4324" y="2910"/>
                  <a:pt x="4279" y="3054"/>
                </a:cubicBezTo>
                <a:cubicBezTo>
                  <a:pt x="4234" y="3198"/>
                  <a:pt x="4105" y="3326"/>
                  <a:pt x="3916" y="3371"/>
                </a:cubicBezTo>
                <a:cubicBezTo>
                  <a:pt x="3727" y="3416"/>
                  <a:pt x="3349" y="3424"/>
                  <a:pt x="3145" y="3326"/>
                </a:cubicBezTo>
                <a:cubicBezTo>
                  <a:pt x="2941" y="3228"/>
                  <a:pt x="2865" y="2925"/>
                  <a:pt x="2691" y="2781"/>
                </a:cubicBezTo>
                <a:cubicBezTo>
                  <a:pt x="2517" y="2637"/>
                  <a:pt x="2358" y="2524"/>
                  <a:pt x="2101" y="2464"/>
                </a:cubicBezTo>
                <a:cubicBezTo>
                  <a:pt x="1844" y="2404"/>
                  <a:pt x="1421" y="2448"/>
                  <a:pt x="1149" y="2418"/>
                </a:cubicBezTo>
                <a:cubicBezTo>
                  <a:pt x="877" y="2388"/>
                  <a:pt x="657" y="2388"/>
                  <a:pt x="468" y="2282"/>
                </a:cubicBezTo>
                <a:close/>
              </a:path>
            </a:pathLst>
          </a:cu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BankGothic Md BT"/>
              </a:rPr>
              <a:t>From eBusiness to </a:t>
            </a:r>
            <a:br>
              <a:rPr sz="2800"/>
            </a:br>
            <a:r>
              <a:rPr b="0" lang="en-GB" sz="2800" spc="-1" strike="noStrike">
                <a:solidFill>
                  <a:srgbClr val="003399"/>
                </a:solidFill>
                <a:latin typeface="BankGothic Md BT"/>
              </a:rPr>
              <a:t>Virtual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4000" y="3122640"/>
            <a:ext cx="1295280" cy="955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516720" y="1341360"/>
            <a:ext cx="1368360" cy="1139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348000" y="5013360"/>
            <a:ext cx="609480" cy="888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7308720" y="3357720"/>
            <a:ext cx="1163880" cy="1407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324000" y="3122640"/>
            <a:ext cx="1295280" cy="955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2556000" y="2925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3392640" y="1197000"/>
            <a:ext cx="819000" cy="876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8"/>
          <a:stretch/>
        </p:blipFill>
        <p:spPr>
          <a:xfrm>
            <a:off x="4932360" y="2060640"/>
            <a:ext cx="1440000" cy="1101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9"/>
          <a:stretch/>
        </p:blipFill>
        <p:spPr>
          <a:xfrm>
            <a:off x="5148360" y="4508640"/>
            <a:ext cx="1368360" cy="1244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rot="1800600">
            <a:off x="3635280" y="4149720"/>
            <a:ext cx="1657440" cy="216000"/>
          </a:xfrm>
          <a:prstGeom prst="leftRightArrow">
            <a:avLst>
              <a:gd name="adj1" fmla="val 50000"/>
              <a:gd name="adj2" fmla="val 152756"/>
            </a:avLst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36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5003640" y="3788640"/>
            <a:ext cx="1368360" cy="216000"/>
          </a:xfrm>
          <a:prstGeom prst="leftRightArrow">
            <a:avLst>
              <a:gd name="adj1" fmla="val 50000"/>
              <a:gd name="adj2" fmla="val 126113"/>
            </a:avLst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866000">
            <a:off x="4095720" y="1815840"/>
            <a:ext cx="1152720" cy="215640"/>
          </a:xfrm>
          <a:prstGeom prst="leftRightArrow">
            <a:avLst>
              <a:gd name="adj1" fmla="val 50000"/>
              <a:gd name="adj2" fmla="val 106416"/>
            </a:avLst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35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58880" y="3422520"/>
            <a:ext cx="863640" cy="216000"/>
          </a:xfrm>
          <a:prstGeom prst="leftRightArrow">
            <a:avLst>
              <a:gd name="adj1" fmla="val 50000"/>
              <a:gd name="adj2" fmla="val 79596"/>
            </a:avLst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9647600">
            <a:off x="1144080" y="2364840"/>
            <a:ext cx="2590920" cy="216000"/>
          </a:xfrm>
          <a:prstGeom prst="leftRightArrow">
            <a:avLst>
              <a:gd name="adj1" fmla="val 50000"/>
              <a:gd name="adj2" fmla="val 150659"/>
            </a:avLst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735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4604000">
            <a:off x="3371760" y="3173040"/>
            <a:ext cx="2806560" cy="215640"/>
          </a:xfrm>
          <a:prstGeom prst="leftRightArrow">
            <a:avLst>
              <a:gd name="adj1" fmla="val 50000"/>
              <a:gd name="adj2" fmla="val 163471"/>
            </a:avLst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1239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8000" y="98100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r" pos="35712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ormation of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" dur="3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" dur="3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3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6" dur="3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" dur="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4240" y="885960"/>
            <a:ext cx="6864120" cy="5435640"/>
          </a:xfrm>
          <a:custGeom>
            <a:avLst/>
            <a:gdLst/>
            <a:ahLst/>
            <a:rect l="l" t="t" r="r" b="b"/>
            <a:pathLst>
              <a:path w="4324" h="3424">
                <a:moveTo>
                  <a:pt x="468" y="2282"/>
                </a:moveTo>
                <a:cubicBezTo>
                  <a:pt x="279" y="2176"/>
                  <a:pt x="30" y="1979"/>
                  <a:pt x="15" y="1783"/>
                </a:cubicBezTo>
                <a:cubicBezTo>
                  <a:pt x="0" y="1587"/>
                  <a:pt x="151" y="1216"/>
                  <a:pt x="378" y="1103"/>
                </a:cubicBezTo>
                <a:cubicBezTo>
                  <a:pt x="605" y="990"/>
                  <a:pt x="1127" y="1156"/>
                  <a:pt x="1376" y="1103"/>
                </a:cubicBezTo>
                <a:cubicBezTo>
                  <a:pt x="1625" y="1050"/>
                  <a:pt x="1791" y="922"/>
                  <a:pt x="1874" y="786"/>
                </a:cubicBezTo>
                <a:cubicBezTo>
                  <a:pt x="1957" y="650"/>
                  <a:pt x="1829" y="408"/>
                  <a:pt x="1874" y="287"/>
                </a:cubicBezTo>
                <a:cubicBezTo>
                  <a:pt x="1919" y="166"/>
                  <a:pt x="1973" y="98"/>
                  <a:pt x="2147" y="60"/>
                </a:cubicBezTo>
                <a:cubicBezTo>
                  <a:pt x="2321" y="22"/>
                  <a:pt x="2646" y="0"/>
                  <a:pt x="2918" y="60"/>
                </a:cubicBezTo>
                <a:cubicBezTo>
                  <a:pt x="3190" y="120"/>
                  <a:pt x="3568" y="227"/>
                  <a:pt x="3780" y="423"/>
                </a:cubicBezTo>
                <a:cubicBezTo>
                  <a:pt x="3992" y="619"/>
                  <a:pt x="4158" y="975"/>
                  <a:pt x="4188" y="1239"/>
                </a:cubicBezTo>
                <a:cubicBezTo>
                  <a:pt x="4218" y="1503"/>
                  <a:pt x="3961" y="1798"/>
                  <a:pt x="3961" y="2010"/>
                </a:cubicBezTo>
                <a:cubicBezTo>
                  <a:pt x="3961" y="2222"/>
                  <a:pt x="4135" y="2335"/>
                  <a:pt x="4188" y="2509"/>
                </a:cubicBezTo>
                <a:cubicBezTo>
                  <a:pt x="4241" y="2683"/>
                  <a:pt x="4324" y="2910"/>
                  <a:pt x="4279" y="3054"/>
                </a:cubicBezTo>
                <a:cubicBezTo>
                  <a:pt x="4234" y="3198"/>
                  <a:pt x="4105" y="3326"/>
                  <a:pt x="3916" y="3371"/>
                </a:cubicBezTo>
                <a:cubicBezTo>
                  <a:pt x="3727" y="3416"/>
                  <a:pt x="3349" y="3424"/>
                  <a:pt x="3145" y="3326"/>
                </a:cubicBezTo>
                <a:cubicBezTo>
                  <a:pt x="2941" y="3228"/>
                  <a:pt x="2865" y="2925"/>
                  <a:pt x="2691" y="2781"/>
                </a:cubicBezTo>
                <a:cubicBezTo>
                  <a:pt x="2517" y="2637"/>
                  <a:pt x="2358" y="2524"/>
                  <a:pt x="2101" y="2464"/>
                </a:cubicBezTo>
                <a:cubicBezTo>
                  <a:pt x="1844" y="2404"/>
                  <a:pt x="1421" y="2448"/>
                  <a:pt x="1149" y="2418"/>
                </a:cubicBezTo>
                <a:cubicBezTo>
                  <a:pt x="877" y="2388"/>
                  <a:pt x="657" y="2388"/>
                  <a:pt x="468" y="2282"/>
                </a:cubicBezTo>
                <a:close/>
              </a:path>
            </a:pathLst>
          </a:cu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BankGothic Md BT"/>
              </a:rPr>
              <a:t>From eBusiness to </a:t>
            </a:r>
            <a:br>
              <a:rPr sz="2800"/>
            </a:br>
            <a:r>
              <a:rPr b="0" lang="en-GB" sz="2800" spc="-1" strike="noStrike">
                <a:solidFill>
                  <a:srgbClr val="003399"/>
                </a:solidFill>
                <a:latin typeface="BankGothic Md BT"/>
              </a:rPr>
              <a:t>Virtual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3122640"/>
            <a:ext cx="1295280" cy="955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516720" y="1341360"/>
            <a:ext cx="1368360" cy="1139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348000" y="5013360"/>
            <a:ext cx="609480" cy="888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7308720" y="3357720"/>
            <a:ext cx="1163880" cy="1407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324000" y="3122640"/>
            <a:ext cx="1295280" cy="955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2556000" y="2925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3392640" y="1197000"/>
            <a:ext cx="819000" cy="876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4932360" y="2060640"/>
            <a:ext cx="1440000" cy="1101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9"/>
          <a:stretch/>
        </p:blipFill>
        <p:spPr>
          <a:xfrm>
            <a:off x="5148360" y="4508640"/>
            <a:ext cx="1368360" cy="1244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630440" y="3429000"/>
            <a:ext cx="863640" cy="216000"/>
          </a:xfrm>
          <a:prstGeom prst="rightArrow">
            <a:avLst>
              <a:gd name="adj1" fmla="val 50000"/>
              <a:gd name="adj2" fmla="val 99958"/>
            </a:avLst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 Narrow"/>
              </a:rPr>
              <a:t>Start proces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9597200">
            <a:off x="1143000" y="2349000"/>
            <a:ext cx="2592360" cy="216000"/>
          </a:xfrm>
          <a:prstGeom prst="rightArrow">
            <a:avLst>
              <a:gd name="adj1" fmla="val 50000"/>
              <a:gd name="adj2" fmla="val 137241"/>
            </a:avLst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740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 Narrow"/>
              </a:rPr>
              <a:t>Store airplane desig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779000">
            <a:off x="3635280" y="4149720"/>
            <a:ext cx="1728720" cy="216000"/>
          </a:xfrm>
          <a:prstGeom prst="rightArrow">
            <a:avLst>
              <a:gd name="adj1" fmla="val 50000"/>
              <a:gd name="adj2" fmla="val 116382"/>
            </a:avLst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362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 Narrow"/>
              </a:rPr>
              <a:t>Forward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rot="3772800">
            <a:off x="3454920" y="3176280"/>
            <a:ext cx="2736720" cy="216000"/>
          </a:xfrm>
          <a:prstGeom prst="rightArrow">
            <a:avLst>
              <a:gd name="adj1" fmla="val 50000"/>
              <a:gd name="adj2" fmla="val 184243"/>
            </a:avLst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917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 Narrow"/>
              </a:rPr>
              <a:t>Verify desig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5003640" y="3788640"/>
            <a:ext cx="1368360" cy="216000"/>
          </a:xfrm>
          <a:prstGeom prst="rightArrow">
            <a:avLst>
              <a:gd name="adj1" fmla="val 50000"/>
              <a:gd name="adj2" fmla="val 158375"/>
            </a:avLst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rot="1758600">
            <a:off x="4066920" y="1773360"/>
            <a:ext cx="1152360" cy="215640"/>
          </a:xfrm>
          <a:prstGeom prst="rightArrow">
            <a:avLst>
              <a:gd name="adj1" fmla="val 50000"/>
              <a:gd name="adj2" fmla="val 133598"/>
            </a:avLst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71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3891600">
            <a:off x="5867280" y="1699920"/>
            <a:ext cx="865080" cy="865440"/>
          </a:xfrm>
          <a:custGeom>
            <a:avLst/>
            <a:gdLst>
              <a:gd name="textAreaLeft" fmla="*/ 0 w 865080"/>
              <a:gd name="textAreaRight" fmla="*/ 865440 w 86508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21600" h="21600">
                <a:moveTo>
                  <a:pt x="2576" y="10780"/>
                </a:moveTo>
                <a:arcTo wR="-8224" hR="-8224" stAng="-10791640" swAng="-13570683"/>
                <a:lnTo>
                  <a:pt x="3303" y="18574"/>
                </a:lnTo>
                <a:arcTo wR="10800" hR="10800" stAng="8037676" swAng="13570683"/>
                <a:lnTo>
                  <a:pt x="24300" y="10833"/>
                </a:lnTo>
                <a:lnTo>
                  <a:pt x="20302" y="14811"/>
                </a:lnTo>
                <a:lnTo>
                  <a:pt x="16324" y="10813"/>
                </a:ln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150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 rot="5400000">
            <a:off x="5003640" y="3787920"/>
            <a:ext cx="1368360" cy="216000"/>
          </a:xfrm>
          <a:prstGeom prst="rightArrow">
            <a:avLst>
              <a:gd name="adj1" fmla="val 50000"/>
              <a:gd name="adj2" fmla="val 158375"/>
            </a:avLst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2579000">
            <a:off x="3634920" y="4149360"/>
            <a:ext cx="1728720" cy="216000"/>
          </a:xfrm>
          <a:prstGeom prst="rightArrow">
            <a:avLst>
              <a:gd name="adj1" fmla="val 50000"/>
              <a:gd name="adj2" fmla="val 116382"/>
            </a:avLst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1442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618560" y="3429000"/>
            <a:ext cx="863640" cy="216000"/>
          </a:xfrm>
          <a:prstGeom prst="rightArrow">
            <a:avLst>
              <a:gd name="adj1" fmla="val 50000"/>
              <a:gd name="adj2" fmla="val 99958"/>
            </a:avLst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9597200">
            <a:off x="1138320" y="2349000"/>
            <a:ext cx="2592360" cy="216000"/>
          </a:xfrm>
          <a:prstGeom prst="rightArrow">
            <a:avLst>
              <a:gd name="adj1" fmla="val 50000"/>
              <a:gd name="adj2" fmla="val 137241"/>
            </a:avLst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740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8797200">
            <a:off x="1142640" y="2342880"/>
            <a:ext cx="2592360" cy="215640"/>
          </a:xfrm>
          <a:prstGeom prst="rightArrow">
            <a:avLst>
              <a:gd name="adj1" fmla="val 50000"/>
              <a:gd name="adj2" fmla="val 137470"/>
            </a:avLst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1820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8000" y="98100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r" pos="35712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II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xecution of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ocess(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5680" y="1378080"/>
            <a:ext cx="6864480" cy="4940280"/>
          </a:xfrm>
          <a:custGeom>
            <a:avLst/>
            <a:gdLst/>
            <a:ahLst/>
            <a:rect l="l" t="t" r="r" b="b"/>
            <a:pathLst>
              <a:path w="4324" h="3112">
                <a:moveTo>
                  <a:pt x="468" y="1978"/>
                </a:moveTo>
                <a:cubicBezTo>
                  <a:pt x="279" y="1872"/>
                  <a:pt x="30" y="1675"/>
                  <a:pt x="15" y="1479"/>
                </a:cubicBezTo>
                <a:cubicBezTo>
                  <a:pt x="0" y="1283"/>
                  <a:pt x="151" y="912"/>
                  <a:pt x="378" y="799"/>
                </a:cubicBezTo>
                <a:cubicBezTo>
                  <a:pt x="605" y="686"/>
                  <a:pt x="1068" y="812"/>
                  <a:pt x="1376" y="799"/>
                </a:cubicBezTo>
                <a:cubicBezTo>
                  <a:pt x="1684" y="786"/>
                  <a:pt x="1969" y="815"/>
                  <a:pt x="2229" y="718"/>
                </a:cubicBezTo>
                <a:cubicBezTo>
                  <a:pt x="2489" y="621"/>
                  <a:pt x="2675" y="320"/>
                  <a:pt x="2933" y="220"/>
                </a:cubicBezTo>
                <a:cubicBezTo>
                  <a:pt x="3191" y="120"/>
                  <a:pt x="3571" y="0"/>
                  <a:pt x="3780" y="119"/>
                </a:cubicBezTo>
                <a:cubicBezTo>
                  <a:pt x="3989" y="238"/>
                  <a:pt x="4158" y="671"/>
                  <a:pt x="4188" y="935"/>
                </a:cubicBezTo>
                <a:cubicBezTo>
                  <a:pt x="4218" y="1199"/>
                  <a:pt x="3961" y="1494"/>
                  <a:pt x="3961" y="1706"/>
                </a:cubicBezTo>
                <a:cubicBezTo>
                  <a:pt x="3961" y="1918"/>
                  <a:pt x="4135" y="2031"/>
                  <a:pt x="4188" y="2205"/>
                </a:cubicBezTo>
                <a:cubicBezTo>
                  <a:pt x="4241" y="2379"/>
                  <a:pt x="4324" y="2606"/>
                  <a:pt x="4279" y="2750"/>
                </a:cubicBezTo>
                <a:cubicBezTo>
                  <a:pt x="4234" y="2894"/>
                  <a:pt x="4105" y="3022"/>
                  <a:pt x="3916" y="3067"/>
                </a:cubicBezTo>
                <a:cubicBezTo>
                  <a:pt x="3727" y="3112"/>
                  <a:pt x="3454" y="3039"/>
                  <a:pt x="3145" y="3022"/>
                </a:cubicBezTo>
                <a:cubicBezTo>
                  <a:pt x="2836" y="3005"/>
                  <a:pt x="2285" y="3046"/>
                  <a:pt x="2065" y="2965"/>
                </a:cubicBezTo>
                <a:cubicBezTo>
                  <a:pt x="1845" y="2884"/>
                  <a:pt x="1893" y="2644"/>
                  <a:pt x="1824" y="2538"/>
                </a:cubicBezTo>
                <a:cubicBezTo>
                  <a:pt x="1755" y="2432"/>
                  <a:pt x="1765" y="2403"/>
                  <a:pt x="1653" y="2332"/>
                </a:cubicBezTo>
                <a:cubicBezTo>
                  <a:pt x="1541" y="2261"/>
                  <a:pt x="1346" y="2173"/>
                  <a:pt x="1149" y="2114"/>
                </a:cubicBezTo>
                <a:cubicBezTo>
                  <a:pt x="952" y="2055"/>
                  <a:pt x="657" y="2084"/>
                  <a:pt x="468" y="1978"/>
                </a:cubicBezTo>
                <a:close/>
              </a:path>
            </a:pathLst>
          </a:cu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4240" y="885960"/>
            <a:ext cx="6864120" cy="5435640"/>
          </a:xfrm>
          <a:custGeom>
            <a:avLst/>
            <a:gdLst/>
            <a:ahLst/>
            <a:rect l="l" t="t" r="r" b="b"/>
            <a:pathLst>
              <a:path w="4324" h="3424">
                <a:moveTo>
                  <a:pt x="468" y="2282"/>
                </a:moveTo>
                <a:cubicBezTo>
                  <a:pt x="279" y="2176"/>
                  <a:pt x="30" y="1979"/>
                  <a:pt x="15" y="1783"/>
                </a:cubicBezTo>
                <a:cubicBezTo>
                  <a:pt x="0" y="1587"/>
                  <a:pt x="151" y="1216"/>
                  <a:pt x="378" y="1103"/>
                </a:cubicBezTo>
                <a:cubicBezTo>
                  <a:pt x="605" y="990"/>
                  <a:pt x="1127" y="1156"/>
                  <a:pt x="1376" y="1103"/>
                </a:cubicBezTo>
                <a:cubicBezTo>
                  <a:pt x="1625" y="1050"/>
                  <a:pt x="1791" y="922"/>
                  <a:pt x="1874" y="786"/>
                </a:cubicBezTo>
                <a:cubicBezTo>
                  <a:pt x="1957" y="650"/>
                  <a:pt x="1829" y="408"/>
                  <a:pt x="1874" y="287"/>
                </a:cubicBezTo>
                <a:cubicBezTo>
                  <a:pt x="1919" y="166"/>
                  <a:pt x="1973" y="98"/>
                  <a:pt x="2147" y="60"/>
                </a:cubicBezTo>
                <a:cubicBezTo>
                  <a:pt x="2321" y="22"/>
                  <a:pt x="2646" y="0"/>
                  <a:pt x="2918" y="60"/>
                </a:cubicBezTo>
                <a:cubicBezTo>
                  <a:pt x="3190" y="120"/>
                  <a:pt x="3568" y="227"/>
                  <a:pt x="3780" y="423"/>
                </a:cubicBezTo>
                <a:cubicBezTo>
                  <a:pt x="3992" y="619"/>
                  <a:pt x="4158" y="975"/>
                  <a:pt x="4188" y="1239"/>
                </a:cubicBezTo>
                <a:cubicBezTo>
                  <a:pt x="4218" y="1503"/>
                  <a:pt x="3961" y="1798"/>
                  <a:pt x="3961" y="2010"/>
                </a:cubicBezTo>
                <a:cubicBezTo>
                  <a:pt x="3961" y="2222"/>
                  <a:pt x="4135" y="2335"/>
                  <a:pt x="4188" y="2509"/>
                </a:cubicBezTo>
                <a:cubicBezTo>
                  <a:pt x="4241" y="2683"/>
                  <a:pt x="4324" y="2910"/>
                  <a:pt x="4279" y="3054"/>
                </a:cubicBezTo>
                <a:cubicBezTo>
                  <a:pt x="4234" y="3198"/>
                  <a:pt x="4105" y="3326"/>
                  <a:pt x="3916" y="3371"/>
                </a:cubicBezTo>
                <a:cubicBezTo>
                  <a:pt x="3727" y="3416"/>
                  <a:pt x="3349" y="3424"/>
                  <a:pt x="3145" y="3326"/>
                </a:cubicBezTo>
                <a:cubicBezTo>
                  <a:pt x="2941" y="3228"/>
                  <a:pt x="2865" y="2925"/>
                  <a:pt x="2691" y="2781"/>
                </a:cubicBezTo>
                <a:cubicBezTo>
                  <a:pt x="2517" y="2637"/>
                  <a:pt x="2358" y="2524"/>
                  <a:pt x="2101" y="2464"/>
                </a:cubicBezTo>
                <a:cubicBezTo>
                  <a:pt x="1844" y="2404"/>
                  <a:pt x="1421" y="2448"/>
                  <a:pt x="1149" y="2418"/>
                </a:cubicBezTo>
                <a:cubicBezTo>
                  <a:pt x="877" y="2388"/>
                  <a:pt x="657" y="2388"/>
                  <a:pt x="468" y="2282"/>
                </a:cubicBezTo>
                <a:close/>
              </a:path>
            </a:pathLst>
          </a:cu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BankGothic Md BT"/>
              </a:rPr>
              <a:t>From eBusiness to </a:t>
            </a:r>
            <a:br>
              <a:rPr sz="2800"/>
            </a:br>
            <a:r>
              <a:rPr b="0" lang="en-GB" sz="2800" spc="-1" strike="noStrike">
                <a:solidFill>
                  <a:srgbClr val="003399"/>
                </a:solidFill>
                <a:latin typeface="BankGothic Md BT"/>
              </a:rPr>
              <a:t>Virtual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24000" y="3122640"/>
            <a:ext cx="1295280" cy="955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516720" y="1341360"/>
            <a:ext cx="1368360" cy="1139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348000" y="5013360"/>
            <a:ext cx="609480" cy="888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308720" y="3357720"/>
            <a:ext cx="1163880" cy="14079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324000" y="3122640"/>
            <a:ext cx="1295280" cy="955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2556000" y="2925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7"/>
          <a:stretch/>
        </p:blipFill>
        <p:spPr>
          <a:xfrm>
            <a:off x="3392640" y="1197000"/>
            <a:ext cx="819000" cy="876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8"/>
          <a:stretch/>
        </p:blipFill>
        <p:spPr>
          <a:xfrm>
            <a:off x="4932360" y="2060640"/>
            <a:ext cx="1440000" cy="1101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9"/>
          <a:stretch/>
        </p:blipFill>
        <p:spPr>
          <a:xfrm>
            <a:off x="5148360" y="4508640"/>
            <a:ext cx="1368360" cy="12445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0"/>
          <a:stretch/>
        </p:blipFill>
        <p:spPr>
          <a:xfrm>
            <a:off x="3392640" y="1197000"/>
            <a:ext cx="819000" cy="8762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1"/>
          <a:stretch/>
        </p:blipFill>
        <p:spPr>
          <a:xfrm>
            <a:off x="3348000" y="5013360"/>
            <a:ext cx="609480" cy="888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rot="1800600">
            <a:off x="3635280" y="4149720"/>
            <a:ext cx="1657440" cy="216000"/>
          </a:xfrm>
          <a:prstGeom prst="leftRightArrow">
            <a:avLst>
              <a:gd name="adj1" fmla="val 50000"/>
              <a:gd name="adj2" fmla="val 152756"/>
            </a:avLst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36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5003640" y="3788640"/>
            <a:ext cx="1368360" cy="216000"/>
          </a:xfrm>
          <a:prstGeom prst="leftRightArrow">
            <a:avLst>
              <a:gd name="adj1" fmla="val 50000"/>
              <a:gd name="adj2" fmla="val 126113"/>
            </a:avLst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866000">
            <a:off x="4095720" y="1815840"/>
            <a:ext cx="1152720" cy="215640"/>
          </a:xfrm>
          <a:prstGeom prst="leftRightArrow">
            <a:avLst>
              <a:gd name="adj1" fmla="val 50000"/>
              <a:gd name="adj2" fmla="val 106416"/>
            </a:avLst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35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58880" y="3422520"/>
            <a:ext cx="863640" cy="216000"/>
          </a:xfrm>
          <a:prstGeom prst="leftRightArrow">
            <a:avLst>
              <a:gd name="adj1" fmla="val 50000"/>
              <a:gd name="adj2" fmla="val 79596"/>
            </a:avLst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9647600">
            <a:off x="1144080" y="2364840"/>
            <a:ext cx="2590920" cy="216000"/>
          </a:xfrm>
          <a:prstGeom prst="leftRightArrow">
            <a:avLst>
              <a:gd name="adj1" fmla="val 50000"/>
              <a:gd name="adj2" fmla="val 150659"/>
            </a:avLst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735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4604000">
            <a:off x="3371760" y="3173040"/>
            <a:ext cx="2806560" cy="215640"/>
          </a:xfrm>
          <a:prstGeom prst="leftRightArrow">
            <a:avLst>
              <a:gd name="adj1" fmla="val 50000"/>
              <a:gd name="adj2" fmla="val 163471"/>
            </a:avLst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1239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20431200">
            <a:off x="3995280" y="5084280"/>
            <a:ext cx="1225800" cy="216000"/>
          </a:xfrm>
          <a:prstGeom prst="leftRightArrow">
            <a:avLst>
              <a:gd name="adj1" fmla="val 50000"/>
              <a:gd name="adj2" fmla="val 112975"/>
            </a:avLst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65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2137800">
            <a:off x="1331640" y="4508280"/>
            <a:ext cx="2160360" cy="215640"/>
          </a:xfrm>
          <a:prstGeom prst="leftRightArrow">
            <a:avLst>
              <a:gd name="adj1" fmla="val 50000"/>
              <a:gd name="adj2" fmla="val 125832"/>
            </a:avLst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326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8298200">
            <a:off x="3330360" y="4000320"/>
            <a:ext cx="2232000" cy="212760"/>
          </a:xfrm>
          <a:prstGeom prst="leftRightArrow">
            <a:avLst>
              <a:gd name="adj1" fmla="val 50000"/>
              <a:gd name="adj2" fmla="val 131765"/>
            </a:avLst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8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8000" y="98100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r" pos="35712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V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ynamic Exchang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f Particip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85680" y="1378080"/>
            <a:ext cx="6864480" cy="4940280"/>
          </a:xfrm>
          <a:custGeom>
            <a:avLst/>
            <a:gdLst/>
            <a:ahLst/>
            <a:rect l="l" t="t" r="r" b="b"/>
            <a:pathLst>
              <a:path w="4324" h="3112">
                <a:moveTo>
                  <a:pt x="468" y="1978"/>
                </a:moveTo>
                <a:cubicBezTo>
                  <a:pt x="279" y="1872"/>
                  <a:pt x="30" y="1675"/>
                  <a:pt x="15" y="1479"/>
                </a:cubicBezTo>
                <a:cubicBezTo>
                  <a:pt x="0" y="1283"/>
                  <a:pt x="151" y="912"/>
                  <a:pt x="378" y="799"/>
                </a:cubicBezTo>
                <a:cubicBezTo>
                  <a:pt x="605" y="686"/>
                  <a:pt x="1068" y="812"/>
                  <a:pt x="1376" y="799"/>
                </a:cubicBezTo>
                <a:cubicBezTo>
                  <a:pt x="1684" y="786"/>
                  <a:pt x="1969" y="815"/>
                  <a:pt x="2229" y="718"/>
                </a:cubicBezTo>
                <a:cubicBezTo>
                  <a:pt x="2489" y="621"/>
                  <a:pt x="2675" y="320"/>
                  <a:pt x="2933" y="220"/>
                </a:cubicBezTo>
                <a:cubicBezTo>
                  <a:pt x="3191" y="120"/>
                  <a:pt x="3571" y="0"/>
                  <a:pt x="3780" y="119"/>
                </a:cubicBezTo>
                <a:cubicBezTo>
                  <a:pt x="3989" y="238"/>
                  <a:pt x="4158" y="671"/>
                  <a:pt x="4188" y="935"/>
                </a:cubicBezTo>
                <a:cubicBezTo>
                  <a:pt x="4218" y="1199"/>
                  <a:pt x="3961" y="1494"/>
                  <a:pt x="3961" y="1706"/>
                </a:cubicBezTo>
                <a:cubicBezTo>
                  <a:pt x="3961" y="1918"/>
                  <a:pt x="4135" y="2031"/>
                  <a:pt x="4188" y="2205"/>
                </a:cubicBezTo>
                <a:cubicBezTo>
                  <a:pt x="4241" y="2379"/>
                  <a:pt x="4324" y="2606"/>
                  <a:pt x="4279" y="2750"/>
                </a:cubicBezTo>
                <a:cubicBezTo>
                  <a:pt x="4234" y="2894"/>
                  <a:pt x="4105" y="3022"/>
                  <a:pt x="3916" y="3067"/>
                </a:cubicBezTo>
                <a:cubicBezTo>
                  <a:pt x="3727" y="3112"/>
                  <a:pt x="3454" y="3039"/>
                  <a:pt x="3145" y="3022"/>
                </a:cubicBezTo>
                <a:cubicBezTo>
                  <a:pt x="2836" y="3005"/>
                  <a:pt x="2285" y="3046"/>
                  <a:pt x="2065" y="2965"/>
                </a:cubicBezTo>
                <a:cubicBezTo>
                  <a:pt x="1845" y="2884"/>
                  <a:pt x="1893" y="2644"/>
                  <a:pt x="1824" y="2538"/>
                </a:cubicBezTo>
                <a:cubicBezTo>
                  <a:pt x="1755" y="2432"/>
                  <a:pt x="1765" y="2403"/>
                  <a:pt x="1653" y="2332"/>
                </a:cubicBezTo>
                <a:cubicBezTo>
                  <a:pt x="1541" y="2261"/>
                  <a:pt x="1346" y="2173"/>
                  <a:pt x="1149" y="2114"/>
                </a:cubicBezTo>
                <a:cubicBezTo>
                  <a:pt x="952" y="2055"/>
                  <a:pt x="657" y="2084"/>
                  <a:pt x="468" y="1978"/>
                </a:cubicBezTo>
                <a:close/>
              </a:path>
            </a:pathLst>
          </a:cu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BankGothic Md BT"/>
              </a:rPr>
              <a:t>From eBusiness to </a:t>
            </a:r>
            <a:br>
              <a:rPr sz="2800"/>
            </a:br>
            <a:r>
              <a:rPr b="0" lang="en-GB" sz="2800" spc="-1" strike="noStrike">
                <a:solidFill>
                  <a:srgbClr val="003399"/>
                </a:solidFill>
                <a:latin typeface="BankGothic Md BT"/>
              </a:rPr>
              <a:t>Virtual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4000" y="3122640"/>
            <a:ext cx="1295280" cy="955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516720" y="1341360"/>
            <a:ext cx="1368360" cy="1139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348000" y="5013360"/>
            <a:ext cx="609480" cy="8888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7308720" y="3357720"/>
            <a:ext cx="1163880" cy="14079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324000" y="3122640"/>
            <a:ext cx="1295280" cy="955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2556000" y="2925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7"/>
          <a:stretch/>
        </p:blipFill>
        <p:spPr>
          <a:xfrm>
            <a:off x="3392640" y="1197000"/>
            <a:ext cx="819000" cy="8762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8"/>
          <a:stretch/>
        </p:blipFill>
        <p:spPr>
          <a:xfrm>
            <a:off x="4932360" y="2060640"/>
            <a:ext cx="1440000" cy="1101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9"/>
          <a:stretch/>
        </p:blipFill>
        <p:spPr>
          <a:xfrm>
            <a:off x="5148360" y="4508640"/>
            <a:ext cx="1368360" cy="1244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0"/>
          <a:stretch/>
        </p:blipFill>
        <p:spPr>
          <a:xfrm>
            <a:off x="3392640" y="1197000"/>
            <a:ext cx="819000" cy="876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1"/>
          <a:stretch/>
        </p:blipFill>
        <p:spPr>
          <a:xfrm>
            <a:off x="3348000" y="5013360"/>
            <a:ext cx="609480" cy="8888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 rot="1800600">
            <a:off x="3635280" y="4149720"/>
            <a:ext cx="1657440" cy="216000"/>
          </a:xfrm>
          <a:prstGeom prst="leftRightArrow">
            <a:avLst>
              <a:gd name="adj1" fmla="val 50000"/>
              <a:gd name="adj2" fmla="val 152756"/>
            </a:avLst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36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5003640" y="3788640"/>
            <a:ext cx="1368360" cy="216000"/>
          </a:xfrm>
          <a:prstGeom prst="leftRightArrow">
            <a:avLst>
              <a:gd name="adj1" fmla="val 50000"/>
              <a:gd name="adj2" fmla="val 126113"/>
            </a:avLst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58880" y="3422520"/>
            <a:ext cx="863640" cy="216000"/>
          </a:xfrm>
          <a:prstGeom prst="leftRightArrow">
            <a:avLst>
              <a:gd name="adj1" fmla="val 50000"/>
              <a:gd name="adj2" fmla="val 79596"/>
            </a:avLst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20431200">
            <a:off x="3995280" y="5084280"/>
            <a:ext cx="1225800" cy="216000"/>
          </a:xfrm>
          <a:prstGeom prst="leftRightArrow">
            <a:avLst>
              <a:gd name="adj1" fmla="val 50000"/>
              <a:gd name="adj2" fmla="val 112975"/>
            </a:avLst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65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137800">
            <a:off x="1331640" y="4508280"/>
            <a:ext cx="2160360" cy="215640"/>
          </a:xfrm>
          <a:prstGeom prst="leftRightArrow">
            <a:avLst>
              <a:gd name="adj1" fmla="val 50000"/>
              <a:gd name="adj2" fmla="val 125832"/>
            </a:avLst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326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8298200">
            <a:off x="3330360" y="4000320"/>
            <a:ext cx="2232000" cy="212760"/>
          </a:xfrm>
          <a:prstGeom prst="leftRightArrow">
            <a:avLst>
              <a:gd name="adj1" fmla="val 50000"/>
              <a:gd name="adj2" fmla="val 131765"/>
            </a:avLst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8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8000" y="98100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r" pos="35712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ssolution of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800" spc="-1" strike="noStrike">
              <a:solidFill>
                <a:srgbClr val="003399"/>
              </a:solidFill>
              <a:latin typeface="BankGothic Md B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69800"/>
            <a:ext cx="8610480" cy="5079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9280" y="844560"/>
            <a:ext cx="1440000" cy="1160280"/>
          </a:xfrm>
          <a:prstGeom prst="rect">
            <a:avLst/>
          </a:prstGeom>
          <a:noFill/>
          <a:ln w="0">
            <a:noFill/>
          </a:ln>
          <a:effectLst>
            <a:outerShdw dist="77353" dir="562478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2060640"/>
            <a:ext cx="856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ypical collaborations undergo 4 (5) pha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dentification of partners &amp; negotiation of contr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visioning of relevant information (execution details) &amp; configuration of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ecution of the overall business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f need be add, replace and/or dispatch partners during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ssolve the collaboration and terminate the contr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Virtual Organisations provide the means to support these phases autonomous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1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14:06:53Z</dcterms:created>
  <dc:creator>Miriam Cunningham</dc:creator>
  <dc:description/>
  <dc:language>en-US</dc:language>
  <cp:lastModifiedBy>Stefan Wesner</cp:lastModifiedBy>
  <dcterms:modified xsi:type="dcterms:W3CDTF">2005-10-19T08:43:30Z</dcterms:modified>
  <cp:revision>102</cp:revision>
  <dc:subject/>
  <dc:title>eChallenges e2004 PPT Template</dc:title>
</cp:coreProperties>
</file>