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5737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6240" y="1066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560" y="10663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5737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6240" y="35737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7560" y="3573720"/>
            <a:ext cx="27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705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5737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066320"/>
            <a:ext cx="4201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573720"/>
            <a:ext cx="8610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00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-2005-blu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195640" cy="576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3636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6229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ession 4e, 19. October 2005                                         eChallenges e-2005                                 Copyright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0096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6588000" y="5884920"/>
            <a:ext cx="244800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Business – Next Generation Virtual Organisation Concept in GRID environments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- Short Overview on this session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3399"/>
                </a:solidFill>
                <a:uFillTx/>
                <a:latin typeface="Arial"/>
              </a:rPr>
              <a:t>Stefan Wes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"/>
              </a:rPr>
              <a:t>High Performance Computing Centre Stuttg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1372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60199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this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overview and understanding of “Virtual Organisation” in the (Business-)Gri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VO is used (also at e2005) with lots of different mea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s focused on the realization of interoperability e.g. for document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s for collaborative working e.g. in the design of large and complex system e.g. air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s as understood by Grids as a share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standing of VOs in Grids is currently evolving as it get applied to a business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this workshop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hop brings together project from different areas working on Virtu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usiness VOs (presented by IST-Trust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Learning communities  (presented by IST-ELeG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Grids (presented by Akogr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Telco oriented Grids (not presented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Grid view is covered in other session on SLA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session 5a tomor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4:06:53Z</dcterms:created>
  <dc:creator>Miriam Cunningham</dc:creator>
  <dc:description/>
  <dc:language>en-US</dc:language>
  <cp:lastModifiedBy>Stefan Wesner</cp:lastModifiedBy>
  <dcterms:modified xsi:type="dcterms:W3CDTF">2005-10-19T12:31:42Z</dcterms:modified>
  <cp:revision>20</cp:revision>
  <dc:subject/>
  <dc:title>eChallenges e2004 PPT Template</dc:title>
</cp:coreProperties>
</file>